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28D5-F762-4E64-9A93-4D364D9BAB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ldiers, for example, have to be trained to shoot; it does not come naturally to them to kill oth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rue Hobbessian state of nature for Rousseau, where people are equally vulnerable and are no longer restrained by natural aver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 desire to harm others, or take their goods, or be esteemed by others, though that plays a role to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ough Hobbes must assume that we are not naturally squeamish about k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ates </a:t>
            </a:r>
            <a:r>
              <a:rPr b="0" i="1" lang="en-NZ" sz="1200" spc="-1" strike="noStrike">
                <a:solidFill>
                  <a:srgbClr val="000000"/>
                </a:solidFill>
                <a:latin typeface="Arial"/>
              </a:rPr>
              <a:t>do</a:t>
            </a:r>
            <a:r>
              <a:rPr b="0" lang="en-NZ" sz="1200" spc="-1" strike="noStrike">
                <a:solidFill>
                  <a:srgbClr val="000000"/>
                </a:solidFill>
                <a:latin typeface="Arial"/>
              </a:rPr>
              <a:t> care about the comparative power of other states, and they are in a competitive context in which they </a:t>
            </a:r>
            <a:r>
              <a:rPr b="0" i="1" lang="en-NZ" sz="1200" spc="-1" strike="noStrike">
                <a:solidFill>
                  <a:srgbClr val="000000"/>
                </a:solidFill>
                <a:latin typeface="Arial"/>
              </a:rPr>
              <a:t>must</a:t>
            </a:r>
            <a:r>
              <a:rPr b="0" lang="en-NZ" sz="1200" spc="-1" strike="noStrike">
                <a:solidFill>
                  <a:srgbClr val="000000"/>
                </a:solidFill>
                <a:latin typeface="Arial"/>
              </a:rPr>
              <a:t> care about it; what is not true of human beings in the state of nature is true of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Rousseau’s very different assumptions from Hobbes’, he ends up in a worse place: conflict looks nearly irresolv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about whether Rousseau or Hobbes have optimistic or pessimistic assumptions about human nature are usel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ight now, we live in the worst of both worlds: neither fully in a state of nature, nor fully in a civil state, with the inconveniences of both: our natural inclinations perverted by the tendencies of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generally, there is a contradiction between nature and social institutions: either man should be left alone in nature, or he should be shaped more completely by social instit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overeign is instituted to determine what is necessary for our self preservation, taking away the causes of conflict; peace endures so long as we agree who the sovereign 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 sovereign isn’t very good; if the sovereign attacks you, then of course you are on your own in the state of nature as well, but as long as the sovereign keeps the peace you can have no cause for complai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train people to kill other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our de soi: “Man desires his own well-being” but such well-being is “limited by nature to physical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elf-love of man in comparison to others (hence, all the passions of honour, competition, etc.). “Abundance arouses g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CFC7-1979-434B-BE2E-0BEA8E85B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7F88-09AA-4D6E-BA7C-71F49C89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018D8-707B-4A22-90F4-ACC7AB230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4909C-6E4C-495E-B3C2-DA3834BB0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A9728-467B-49BE-8793-2764C9449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36B1B-6FCB-4C0A-9672-1F061B37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C392-FCA6-4A47-A923-BABFA194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F59D-54D7-4E9D-864B-68221C78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8FBF-3BE7-4C70-B2CF-D86958405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7116-6874-4271-AC4E-8ED086B2B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519A-8E1D-4AD1-837E-A521AFFA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06D4-4998-45A1-A232-C2CCA1A40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5722-B4FC-4617-B6E3-2CB5D0CC3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Rousseau</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rationality</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gress of our rationality depends on increasing interdependence (e.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et the progress of our rationality outruns our moral progress: “morals become corrupted as minds become more enlighte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version to killing</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has to </a:t>
            </a:r>
            <a:r>
              <a:rPr b="0" i="1" lang="en-US" sz="3200" spc="-1" strike="noStrike">
                <a:solidFill>
                  <a:srgbClr val="000000"/>
                </a:solidFill>
                <a:latin typeface="Arial"/>
              </a:rPr>
              <a:t>become</a:t>
            </a:r>
            <a:r>
              <a:rPr b="0" lang="en-US" sz="3200" spc="-1" strike="noStrike">
                <a:solidFill>
                  <a:srgbClr val="000000"/>
                </a:solidFill>
                <a:latin typeface="Arial"/>
              </a:rPr>
              <a:t> cruel; it does not normally happen over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effective means of muting the aversion to killing is group solidarity (e.g., nation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oss of natural independence</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aturally love </a:t>
            </a:r>
            <a:r>
              <a:rPr b="0" i="1" lang="en-US" sz="3200" spc="-1" strike="noStrike">
                <a:solidFill>
                  <a:srgbClr val="000000"/>
                </a:solidFill>
                <a:latin typeface="Arial"/>
              </a:rPr>
              <a:t>independence</a:t>
            </a:r>
            <a:r>
              <a:rPr b="0" lang="en-US" sz="3200" spc="-1" strike="noStrike">
                <a:solidFill>
                  <a:srgbClr val="000000"/>
                </a:solidFill>
                <a:latin typeface="Arial"/>
              </a:rPr>
              <a:t>, not being in the power of another: this i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ependence destroys freedom by creating social inequality, and hence fosters confl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natural love of independence prevents the Hobbesian solution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2">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ultimately the result, not of equality and our natural desires, but of </a:t>
            </a:r>
            <a:r>
              <a:rPr b="0" i="1" lang="en-US" sz="3200" spc="-1" strike="noStrike">
                <a:solidFill>
                  <a:srgbClr val="000000"/>
                </a:solidFill>
                <a:latin typeface="Arial"/>
              </a:rPr>
              <a:t>inequality </a:t>
            </a:r>
            <a:r>
              <a:rPr b="0" lang="en-US" sz="3200" spc="-1" strike="noStrike">
                <a:solidFill>
                  <a:srgbClr val="000000"/>
                </a:solidFill>
                <a:latin typeface="Arial"/>
              </a:rPr>
              <a:t>and </a:t>
            </a:r>
            <a:r>
              <a:rPr b="0" i="1" lang="en-US" sz="3200" spc="-1" strike="noStrike">
                <a:solidFill>
                  <a:srgbClr val="000000"/>
                </a:solidFill>
                <a:latin typeface="Arial"/>
              </a:rPr>
              <a:t>our socialized desires</a:t>
            </a:r>
            <a:r>
              <a:rPr b="0" lang="en-US" sz="3200" spc="-1" strike="noStrike">
                <a:solidFill>
                  <a:srgbClr val="000000"/>
                </a:solidFill>
                <a:latin typeface="Arial"/>
              </a:rPr>
              <a:t>, which come from the formation of </a:t>
            </a:r>
            <a:r>
              <a:rPr b="0" i="1" lang="en-US" sz="3200" spc="-1" strike="noStrike">
                <a:solidFill>
                  <a:srgbClr val="000000"/>
                </a:solidFill>
                <a:latin typeface="Arial"/>
              </a:rPr>
              <a:t>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m, conflict is a result of </a:t>
            </a:r>
            <a:r>
              <a:rPr b="0" i="1" lang="en-US" sz="3200" spc="-1" strike="noStrike">
                <a:solidFill>
                  <a:srgbClr val="000000"/>
                </a:solidFill>
                <a:latin typeface="Arial"/>
              </a:rPr>
              <a:t>injust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state of nature: total independence, scattered human beings, no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pressures lead to: small, more or less stateless bands of relatively independent individuals (e.g., the Cari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velopment of “comparative” passions and the conflicts attendant on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vention of property leads to widespread conflict between rich and poor in a stateless context: the Hobbessian “state of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is an invention of the rich, who benefit the most from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events </a:t>
            </a:r>
            <a:r>
              <a:rPr b="0" i="1" lang="en-US" sz="2800" spc="-1" strike="noStrike">
                <a:solidFill>
                  <a:srgbClr val="000000"/>
                </a:solidFill>
                <a:latin typeface="Arial"/>
              </a:rPr>
              <a:t>some</a:t>
            </a:r>
            <a:r>
              <a:rPr b="0" lang="en-US" sz="2800" spc="-1" strike="noStrike">
                <a:solidFill>
                  <a:srgbClr val="000000"/>
                </a:solidFill>
                <a:latin typeface="Arial"/>
              </a:rPr>
              <a:t> of the horrid conflict of the previous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l of these original states are quite imperfect and unjust, and though people tried to make them better occasionally, they mostly degenerated into tyran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development of the social stat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ell versed in my duties and happiness, I shut my book, leave the classroom, and look around me. I see unfortunate nations groaning under yokes of iron, the human race crushed by a handful of oppressors, a starving crowd overwhelmed with pain and hunger, whose blood and tears the rich drink in peace, and everywhere the strong armed against the weak with the formidable power of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 civil st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the state </a:t>
            </a:r>
            <a:r>
              <a:rPr b="0" i="1" lang="en-US" sz="2800" spc="-1" strike="noStrike">
                <a:solidFill>
                  <a:srgbClr val="000000"/>
                </a:solidFill>
                <a:latin typeface="Arial"/>
              </a:rPr>
              <a:t>externalizes</a:t>
            </a:r>
            <a:r>
              <a:rPr b="0" lang="en-US" sz="2800" spc="-1" strike="noStrike">
                <a:solidFill>
                  <a:srgbClr val="000000"/>
                </a:solidFill>
                <a:latin typeface="Arial"/>
              </a:rPr>
              <a:t> conflic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one society is formed, others must form to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ates, unlike individuals, are not naturally equal, and are placed in close connections with one anot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ower is thus relative to the power of other st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states are vigorous to the extent they generate internal solida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ternal solidarity can destroy the aversion to killing members of other group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does conflict come from, for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ire to preserve your life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ationality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ck of a sovereign author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velopment of the stat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ar comes from peace”, i.e., from the development of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is thus endemic in the international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onflict be resolved, th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o the state of nature (generally im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erfectly socializing ourselves: creating a just society that replicates natural independence through dependence on the laws, and creating a federation of such societies (also terribly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untervailing tendencie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ny h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ture is not entirely suppressed; it can never be entirely extinguish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uman beings generally still love independence (free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uman beings generally still find it hard to kill and they abhor ki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a just society look like?</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liminates all personal dependence and substitutes for it a dependence on the law: the rule of la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izes us into becoming citizens, not having a private will distinct from the general wi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also small and not faced with great external dangers or the temptation to conqu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right, Hobbes or Rousseau?</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does conflict get resolved, according to Hobb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onflicting parties agree to a sovere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ing of the pa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is better for each of us individually that there </a:t>
            </a:r>
            <a:r>
              <a:rPr b="0" i="1" lang="en-NZ" sz="2400" spc="-1" strike="noStrike">
                <a:solidFill>
                  <a:srgbClr val="000000"/>
                </a:solidFill>
                <a:latin typeface="Arial"/>
              </a:rPr>
              <a:t>be </a:t>
            </a:r>
            <a:r>
              <a:rPr b="0" lang="en-NZ" sz="2400" spc="-1" strike="noStrike">
                <a:solidFill>
                  <a:srgbClr val="000000"/>
                </a:solidFill>
                <a:latin typeface="Arial"/>
              </a:rPr>
              <a:t>a sovere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is relatively unimportant, however, </a:t>
            </a:r>
            <a:r>
              <a:rPr b="0" i="1" lang="en-NZ" sz="2400" spc="-1" strike="noStrike">
                <a:solidFill>
                  <a:srgbClr val="000000"/>
                </a:solidFill>
                <a:latin typeface="Arial"/>
              </a:rPr>
              <a:t>who</a:t>
            </a:r>
            <a:r>
              <a:rPr b="0" lang="en-NZ" sz="2400" spc="-1" strike="noStrike">
                <a:solidFill>
                  <a:srgbClr val="000000"/>
                </a:solidFill>
                <a:latin typeface="Arial"/>
              </a:rPr>
              <a:t> that sovereign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ut once we agree on such a sovereign, we realize that it is no longer rational for us not to promise to restrain ourselves, and it is no longer rational to disagree on the sovereig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ace endures so long as we agree on the sovereig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pproach to conflic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ivil state is always better than the state of nature; any form of government is better than no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uman beings naturally like, for Roussea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sire to preserve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not calculating mach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y have an aversion to ki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so naturally independent, and love their independ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human beings naturally in confli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f we assume that originally human beings were few and widely scattered, Rousseau’s assumptions imply no great degree of confl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approach to conflic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ere does conflict come from if it is not natu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e desire to preserve oneself, but the comparative passion of </a:t>
            </a:r>
            <a:r>
              <a:rPr b="0" i="1" lang="en-US" sz="2800" spc="-1" strike="noStrike">
                <a:solidFill>
                  <a:srgbClr val="000000"/>
                </a:solidFill>
                <a:latin typeface="Arial"/>
              </a:rPr>
              <a:t>amour prop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of rationality in the service of </a:t>
            </a:r>
            <a:r>
              <a:rPr b="0" i="1" lang="en-US" sz="2800" spc="-1" strike="noStrike">
                <a:solidFill>
                  <a:srgbClr val="000000"/>
                </a:solidFill>
                <a:latin typeface="Arial"/>
              </a:rPr>
              <a:t>amour prop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othering of the aversion to ki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natural independence and the development of ine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ur propre vs. amour de soi</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de soi: the natural self-love of man for his own exist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propre: the self-love of man in comparison to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mour propre is only possible when we have become interdependent and can no longer live without many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02:39:42Z</dcterms:created>
  <dc:creator>Full Name</dc:creator>
  <dc:description/>
  <dc:language>en-US</dc:language>
  <cp:lastModifiedBy>Xavier Marquez</cp:lastModifiedBy>
  <dcterms:modified xsi:type="dcterms:W3CDTF">2008-09-09T19:16:54Z</dcterms:modified>
  <cp:revision>7</cp:revision>
  <dc:subject/>
  <dc:title>Hobbes and Rousseau</dc:title>
</cp:coreProperties>
</file>